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684-2401-4567-A139-92858FA7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2ED-DD85-4731-A9B4-0E3AD796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69B-CD3B-4012-8660-4B375CDA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A8A-2D6A-485A-BFE0-79AAE881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F38-B79D-4C58-A9E3-0D5ACE3F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66-F375-4545-B69C-F5C4F22D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97B-C101-4FDF-B70C-840A9DA4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95C-2A98-4183-990B-60CDACD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07E-25DF-48C4-8429-3520226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E16-9E18-4322-9562-ADC8A104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550-3B54-4ACC-8442-459F93E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A7E-400D-4504-9480-52BA1884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7C03-DD54-40A5-9076-0DC5195E8604}" type="slidenum">
              <a:rPr b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376092"/>
                </a:solidFill>
                <a:latin typeface="Calibri"/>
              </a:rPr>
              <a:t>Узнай произведение искусства</a:t>
            </a:r>
            <a:br>
              <a:rPr sz="7900"/>
            </a:b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581000"/>
            <a:ext cx="7050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нимательно  посмотрите предложенный   видеоряд, 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12000" cy="5989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572000" y="0"/>
            <a:ext cx="689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937320" y="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1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Картинка 17 из 10299"/>
          <p:cNvPicPr/>
          <p:nvPr/>
        </p:nvPicPr>
        <p:blipFill>
          <a:blip r:embed="rId1"/>
          <a:stretch/>
        </p:blipFill>
        <p:spPr>
          <a:xfrm>
            <a:off x="1332000" y="333360"/>
            <a:ext cx="6696000" cy="917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2"/>
          <p:cNvSpPr/>
          <p:nvPr/>
        </p:nvSpPr>
        <p:spPr>
          <a:xfrm>
            <a:off x="4080960" y="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2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87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87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6" descr=" Охотники на привале"/>
          <p:cNvPicPr/>
          <p:nvPr/>
        </p:nvPicPr>
        <p:blipFill>
          <a:blip r:embed="rId1"/>
          <a:stretch/>
        </p:blipFill>
        <p:spPr>
          <a:xfrm>
            <a:off x="250920" y="981000"/>
            <a:ext cx="8605800" cy="5397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009680" y="3333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3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Дюрер Альбрехт. «Четыре всадника»"/>
          <p:cNvPicPr/>
          <p:nvPr/>
        </p:nvPicPr>
        <p:blipFill>
          <a:blip r:embed="rId1"/>
          <a:stretch/>
        </p:blipFill>
        <p:spPr>
          <a:xfrm>
            <a:off x="2268360" y="-27000"/>
            <a:ext cx="511200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81320" y="1890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4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cn13.nevsedoma.org.ua/photo/489/3_files/22.jpg"/>
          <p:cNvPicPr/>
          <p:nvPr/>
        </p:nvPicPr>
        <p:blipFill>
          <a:blip r:embed="rId1"/>
          <a:stretch/>
        </p:blipFill>
        <p:spPr>
          <a:xfrm>
            <a:off x="250920" y="911160"/>
            <a:ext cx="8705880" cy="5756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157640" y="404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 5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87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Пасхальные яйца Карла Фаберже"/>
          <p:cNvPicPr/>
          <p:nvPr/>
        </p:nvPicPr>
        <p:blipFill>
          <a:blip r:embed="rId1"/>
          <a:stretch/>
        </p:blipFill>
        <p:spPr>
          <a:xfrm>
            <a:off x="611280" y="765000"/>
            <a:ext cx="8196120" cy="5810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4080960" y="1890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6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941640" y="3333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лайд 7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2" descr="http://fs106.www.ex.ua/show/439195/439195.jpg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f81bd"/>
                </a:solidFill>
                <a:latin typeface="Calibri"/>
              </a:rPr>
              <a:t>Желаем</a:t>
            </a:r>
            <a:r>
              <a:rPr b="1" i="1" lang="ru-RU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4f81bd"/>
                </a:solidFill>
                <a:latin typeface="Calibri"/>
              </a:rPr>
              <a:t>успеха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6:19:00Z</dcterms:created>
  <dc:creator>SamLab.ws</dc:creator>
  <dc:description/>
  <dc:language>en-US</dc:language>
  <cp:lastModifiedBy>RePack by SPecialiST</cp:lastModifiedBy>
  <dcterms:modified xsi:type="dcterms:W3CDTF">2015-09-16T19:55:25Z</dcterms:modified>
  <cp:revision>13</cp:revision>
  <dc:subject/>
  <dc:title>Слайд 1</dc:title>
</cp:coreProperties>
</file>